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887-FAFD-4AD5-8AB5-F53F6B44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A7A-5048-4B12-B175-BA63634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546-C721-4530-9B91-3A6237D0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CE4-F66F-4395-9577-4C4C379B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81B-61EB-4EA8-BDF1-36B2CE2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9C3-D11A-4B5B-82ED-2AA48854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698-1135-43EC-8090-E8413DF6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EA1-EB12-4E29-B026-92574C24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D48-2AAF-446A-A9B7-4467865C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E60-2FF9-4552-BC71-081E892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AFC-00DA-476D-8111-8616C1B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A2E-25DF-44E4-9E5F-21AB478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F170-AF00-4C53-BD87-49A994FB1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slide19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slide19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950760"/>
            <a:ext cx="8377200" cy="28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c00"/>
                </a:solidFill>
                <a:latin typeface="Times New Roman"/>
              </a:rPr>
              <a:t>A brit oktatási rendszer és a nemzeti alaptanterv bemutatása a magyar oktatási rendszer és tantervi szabályozás tükré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43160" y="399708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84c00"/>
                </a:solidFill>
                <a:latin typeface="Times New Roman"/>
              </a:rPr>
              <a:t>Tóth P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984c00"/>
                </a:solidFill>
                <a:latin typeface="Times New Roman"/>
              </a:rPr>
              <a:t>Toth.Peter@bgk.bmf.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84c00"/>
                </a:solidFill>
                <a:latin typeface="Times New Roman"/>
              </a:rPr>
              <a:t>Bánki Donát Gépészmérnöki Főiskolai K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84c00"/>
                </a:solidFill>
                <a:latin typeface="Times New Roman"/>
              </a:rPr>
              <a:t>Mérnökpedagógiai Intéz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29520" y="626256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3. május 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MFLOGO" descr=""/>
          <p:cNvPicPr/>
          <p:nvPr/>
        </p:nvPicPr>
        <p:blipFill>
          <a:blip r:embed=""/>
          <a:stretch/>
        </p:blipFill>
        <p:spPr>
          <a:xfrm>
            <a:off x="4064040" y="4829040"/>
            <a:ext cx="971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13000" y="81108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7152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9480" y="1565280"/>
            <a:ext cx="0" cy="50641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71600" y="141300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készségcentriku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698480"/>
            <a:ext cx="2324160" cy="38124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4880" y="2395440"/>
            <a:ext cx="23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„kulcskészsége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68560" y="452916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ondolkodási kész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17960" y="2781360"/>
            <a:ext cx="426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kommunikációs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a mennyiségek alkalmazásának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az ICT alkalmazásának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együttműködési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az önálló tanulás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roblémamegoldó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16520" y="4915080"/>
            <a:ext cx="397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információfeldolgozási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érvelési (okfejtési)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tájékozódási, kérdésfelvetési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kreatív gondolkodási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kritikai gondolkodási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74680" y="2052720"/>
            <a:ext cx="43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antárgyakat átölelő készségfejleszt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600" y="3519360"/>
            <a:ext cx="394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Készségfejlesztés elkülönült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 tantárgyakhoz kötötten történ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62800" y="639720"/>
            <a:ext cx="522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3333cc"/>
                </a:solidFill>
                <a:latin typeface="Times New Roman"/>
              </a:rPr>
              <a:t>A National Curriculum tantárgya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280" y="1012680"/>
            <a:ext cx="82882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antárgy nev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ulcsszakasz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ngol nyelv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tematik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mészettudományo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chnik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formációs és komm. tech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stnevel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örténele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öldrajz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degen nyelv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űvészet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nek-zen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mpolgári ismeret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Elsajátítási szint a tanulók többségénél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1-3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2-5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3-7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G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8248680" y="5927760"/>
            <a:ext cx="819000" cy="873000"/>
          </a:xfrm>
          <a:custGeom>
            <a:avLst/>
            <a:gdLst>
              <a:gd name="textAreaLeft" fmla="*/ 145800 w 819000"/>
              <a:gd name="textAreaRight" fmla="*/ 673200 w 819000"/>
              <a:gd name="textAreaTop" fmla="*/ 145800 h 873000"/>
              <a:gd name="textAreaBottom" fmla="*/ 727200 h 873000"/>
            </a:gdLst>
            <a:ahLst/>
            <a:rect l="textAreaLeft" t="textAreaTop" r="textAreaRight" b="textAreaBottom"/>
            <a:pathLst>
              <a:path w="21600" h="23024">
                <a:moveTo>
                  <a:pt x="0" y="0"/>
                </a:moveTo>
                <a:lnTo>
                  <a:pt x="21600" y="0"/>
                </a:lnTo>
                <a:lnTo>
                  <a:pt x="21600" y="23024"/>
                </a:lnTo>
                <a:lnTo>
                  <a:pt x="0" y="23024"/>
                </a:lnTo>
                <a:close/>
              </a:path>
              <a:path fill="lightenLess" w="21600" h="23024">
                <a:moveTo>
                  <a:pt x="0" y="0"/>
                </a:moveTo>
                <a:lnTo>
                  <a:pt x="21600" y="0"/>
                </a:lnTo>
                <a:lnTo>
                  <a:pt x="17749" y="3851"/>
                </a:lnTo>
                <a:lnTo>
                  <a:pt x="3851" y="3851"/>
                </a:lnTo>
                <a:close/>
              </a:path>
              <a:path fill="darken" w="21600" h="23024">
                <a:moveTo>
                  <a:pt x="21600" y="0"/>
                </a:moveTo>
                <a:lnTo>
                  <a:pt x="21600" y="23024"/>
                </a:lnTo>
                <a:lnTo>
                  <a:pt x="17749" y="19173"/>
                </a:lnTo>
                <a:lnTo>
                  <a:pt x="17749" y="3851"/>
                </a:lnTo>
                <a:close/>
              </a:path>
              <a:path fill="darkenLess" w="21600" h="23024">
                <a:moveTo>
                  <a:pt x="21600" y="23024"/>
                </a:moveTo>
                <a:lnTo>
                  <a:pt x="0" y="23024"/>
                </a:lnTo>
                <a:lnTo>
                  <a:pt x="3851" y="19173"/>
                </a:lnTo>
                <a:lnTo>
                  <a:pt x="17749" y="19173"/>
                </a:lnTo>
                <a:close/>
              </a:path>
              <a:path fill="lighten" w="21600" h="23024">
                <a:moveTo>
                  <a:pt x="0" y="23024"/>
                </a:moveTo>
                <a:lnTo>
                  <a:pt x="0" y="0"/>
                </a:lnTo>
                <a:lnTo>
                  <a:pt x="3851" y="3851"/>
                </a:lnTo>
                <a:lnTo>
                  <a:pt x="3851" y="19173"/>
                </a:lnTo>
                <a:close/>
              </a:path>
              <a:path fill="darken" w="21600" h="23024">
                <a:moveTo>
                  <a:pt x="10800" y="6364"/>
                </a:moveTo>
                <a:lnTo>
                  <a:pt x="12705" y="8295"/>
                </a:lnTo>
                <a:lnTo>
                  <a:pt x="12705" y="7008"/>
                </a:lnTo>
                <a:lnTo>
                  <a:pt x="14017" y="7008"/>
                </a:lnTo>
                <a:lnTo>
                  <a:pt x="14017" y="9607"/>
                </a:lnTo>
                <a:lnTo>
                  <a:pt x="15947" y="11512"/>
                </a:lnTo>
                <a:lnTo>
                  <a:pt x="14725" y="11512"/>
                </a:lnTo>
                <a:lnTo>
                  <a:pt x="14725" y="16826"/>
                </a:lnTo>
                <a:lnTo>
                  <a:pt x="6875" y="16826"/>
                </a:lnTo>
                <a:lnTo>
                  <a:pt x="6875" y="11512"/>
                </a:lnTo>
                <a:lnTo>
                  <a:pt x="5653" y="11512"/>
                </a:lnTo>
                <a:close/>
              </a:path>
              <a:path fill="darkenLess" w="21600" h="23024">
                <a:moveTo>
                  <a:pt x="12705" y="8295"/>
                </a:moveTo>
                <a:lnTo>
                  <a:pt x="12705" y="7008"/>
                </a:lnTo>
                <a:lnTo>
                  <a:pt x="14017" y="7008"/>
                </a:lnTo>
                <a:lnTo>
                  <a:pt x="14017" y="9607"/>
                </a:lnTo>
                <a:close/>
              </a:path>
              <a:path fill="darkenLess" w="21600" h="23024">
                <a:moveTo>
                  <a:pt x="10118" y="14098"/>
                </a:moveTo>
                <a:lnTo>
                  <a:pt x="11482" y="14098"/>
                </a:lnTo>
                <a:lnTo>
                  <a:pt x="11482" y="16826"/>
                </a:lnTo>
                <a:lnTo>
                  <a:pt x="14725" y="16826"/>
                </a:lnTo>
                <a:lnTo>
                  <a:pt x="14725" y="11512"/>
                </a:lnTo>
                <a:lnTo>
                  <a:pt x="6875" y="11512"/>
                </a:lnTo>
                <a:lnTo>
                  <a:pt x="6875" y="16826"/>
                </a:lnTo>
                <a:lnTo>
                  <a:pt x="10118" y="168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525800" y="24224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5440" y="52801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43080" y="80640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oktatási rendszer kvalifikációs mátrix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kval1" descr=""/>
          <p:cNvPicPr/>
          <p:nvPr/>
        </p:nvPicPr>
        <p:blipFill>
          <a:blip r:embed="rId2"/>
          <a:stretch/>
        </p:blipFill>
        <p:spPr>
          <a:xfrm>
            <a:off x="252360" y="4206960"/>
            <a:ext cx="6356520" cy="250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3" name="kval2" descr=""/>
          <p:cNvPicPr/>
          <p:nvPr/>
        </p:nvPicPr>
        <p:blipFill>
          <a:blip r:embed="rId3"/>
          <a:stretch/>
        </p:blipFill>
        <p:spPr>
          <a:xfrm>
            <a:off x="266760" y="1444680"/>
            <a:ext cx="6311880" cy="2581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11920" y="84456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6960" y="15271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1. szakasz - a 2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6960" y="30132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. szakasz vége - a 6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7200" y="2090880"/>
            <a:ext cx="58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Írásbeli általános műveltségi vizsga, amelynek cé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tanuló teljesítménybeli előmeneteléne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7200" y="3538440"/>
            <a:ext cx="58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Írásbeli általános műveltségi vizsga, amelynek cé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tanuló teljesítménybeli előmeneteléne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960" y="446076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3. szakasz vége - a 9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4800" y="4986360"/>
            <a:ext cx="89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Központi vizsga az alábbi tantárgyakból (értékelés négyfokozatú skálá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matematika, természettudományos tantárgyak [1992-tő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angol, technika [1993-tó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történelem, földrajz [1994-tő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840" y="1203480"/>
            <a:ext cx="84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4. szakasz - a 11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GCSE -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eneral Certificate of Secondary Edu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7640" y="2033640"/>
            <a:ext cx="78357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A tankötelezettség vé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A középiskolai szakosodás alap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A National Curriculumra épül, az összes tantárgyból tehető vizs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Kötelező vizsgázni angolból, természettudományból, matematikábó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Választható min. három, max. hét tantárgybó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lérhető eredmények: jól megfelelt (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B, C, D) - </a:t>
            </a: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LEVEL2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megfelelt (E, F, G) -</a:t>
            </a: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 LEVEL1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nem felelt meg (U); míg matematikából jól megfelelt (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B, C), közepesen megfelelt (B, C, D, E), megfelelt (D, E, F, G), nem felelt meg (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2840" y="133668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GNVQ -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eneral National Vocational Qualifi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7640" y="1995480"/>
            <a:ext cx="78357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Két típusa van: „three-unit qualification”, „six-unit qualificatio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lőbbi két 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- C értékű GCSE-vel, utóbbi négy 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- C értékű GCSE-vel egyenértékű (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INTERMEDIATE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LEVEL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lőbbi két D - G értékű GCSE-vel, utóbbi négy D - G értékű GCSE-vel egyenértékű (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FOUNDATION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LEVEL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Választható szakterület, szakmacsoportok: művészetek, üzleti élet, szórakozás és turizmus, információs és kommunikációs technológia, épített környezet,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4280" y="124128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ey Skills qualifi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1-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7640" y="1843200"/>
            <a:ext cx="78357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Három egységből áll: kommunikáció, „application of number”, információs és kommunikációs technoló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Kommunikáció LEVEL1 </a:t>
            </a:r>
            <a:r>
              <a:rPr b="1" lang="hu-HU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 Angol nyelv GCSE D-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„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Application of number” LEVEL1 </a:t>
            </a:r>
            <a:r>
              <a:rPr b="1" lang="hu-HU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  Matematika GCSE D-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Információs és kommunikációs technológia LEVEL1 </a:t>
            </a:r>
            <a:r>
              <a:rPr b="1" lang="hu-HU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 : „three-unit qualification”, „six-unit qualification” GNVQ FOUNDATION LEVEL (inf. komm. tech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z érvényes a LEVEL 2 és LEVEL 3-re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40" y="1241280"/>
            <a:ext cx="91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VQ - National Vocational (Occupational) Qualification -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VEL 1-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1843200"/>
            <a:ext cx="8226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Valamilyen foglalkozáshoz kötődő, egységes kompetencia alapú képz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GCSE megszerzése utáni szakképzés </a:t>
            </a:r>
            <a:r>
              <a:rPr b="1" lang="hu-HU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teljes idős képzés, részidős kép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urt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8480" y="5024520"/>
            <a:ext cx="201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űszaki és üzl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akképesít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33880" y="5024520"/>
            <a:ext cx="1892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ézműves ip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akképesít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3240" y="504360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reskedelmi és művész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akképesítés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600200" y="3772080"/>
            <a:ext cx="3314880" cy="12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3800" y="3772080"/>
            <a:ext cx="219096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190760" y="3790800"/>
            <a:ext cx="74268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" y="5810400"/>
            <a:ext cx="24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usiness and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ducational Coun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63320" y="5829480"/>
            <a:ext cx="197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G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ity and Guild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London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5160" y="5867280"/>
            <a:ext cx="175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oyal Socie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4960" y="4033800"/>
            <a:ext cx="4906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3 szintű szakképzések; 1-2 év időtartamú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720" y="124128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CE - General Certificate of Edu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7640" y="1843200"/>
            <a:ext cx="7835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felvételi vizsgával egyenértékű vizsg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árom, vagy hat tanegységből á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ét éves képzé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három tantárgyból álló egységgel az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szint, míg a hat tantárgyból álló egységgel a teljes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szint teljesíthető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tanulók 35-40%-a tesz ilyen szintű vizsgá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9320" y="4460760"/>
            <a:ext cx="86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VCE - Advanced Vocational Certificate of Edu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7640" y="5062680"/>
            <a:ext cx="78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A General National Vocational Qualification 3. szint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760" y="5842080"/>
            <a:ext cx="1680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tan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7720" y="5842080"/>
            <a:ext cx="1680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tan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92640" y="5842080"/>
            <a:ext cx="18327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tan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96000" y="556236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96000" y="5543640"/>
            <a:ext cx="3066840" cy="29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847520" y="5562720"/>
            <a:ext cx="304812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9720" y="6407280"/>
            <a:ext cx="26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enértékű GCE AS-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4720" y="639432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enértékű GCE A-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08640" y="637236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enértékű két GCE A-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57240" y="5889600"/>
            <a:ext cx="582480" cy="587520"/>
          </a:xfrm>
          <a:custGeom>
            <a:avLst/>
            <a:gdLst>
              <a:gd name="textAreaLeft" fmla="*/ 110880 w 582480"/>
              <a:gd name="textAreaRight" fmla="*/ 471600 w 582480"/>
              <a:gd name="textAreaTop" fmla="*/ 110880 h 587520"/>
              <a:gd name="textAreaBottom" fmla="*/ 476640 h 587520"/>
            </a:gdLst>
            <a:ahLst/>
            <a:rect l="textAreaLeft" t="textAreaTop" r="textAreaRight" b="textAreaBottom"/>
            <a:pathLst>
              <a:path w="21600" h="21787">
                <a:moveTo>
                  <a:pt x="0" y="0"/>
                </a:moveTo>
                <a:lnTo>
                  <a:pt x="21600" y="0"/>
                </a:lnTo>
                <a:lnTo>
                  <a:pt x="21600" y="21787"/>
                </a:lnTo>
                <a:lnTo>
                  <a:pt x="0" y="21787"/>
                </a:lnTo>
                <a:close/>
              </a:path>
              <a:path fill="lightenLess" w="21600" h="21787">
                <a:moveTo>
                  <a:pt x="0" y="0"/>
                </a:moveTo>
                <a:lnTo>
                  <a:pt x="21600" y="0"/>
                </a:lnTo>
                <a:lnTo>
                  <a:pt x="17478" y="4122"/>
                </a:lnTo>
                <a:lnTo>
                  <a:pt x="4122" y="4122"/>
                </a:lnTo>
                <a:close/>
              </a:path>
              <a:path fill="darken" w="21600" h="21787">
                <a:moveTo>
                  <a:pt x="21600" y="0"/>
                </a:moveTo>
                <a:lnTo>
                  <a:pt x="21600" y="21787"/>
                </a:lnTo>
                <a:lnTo>
                  <a:pt x="17478" y="17665"/>
                </a:lnTo>
                <a:lnTo>
                  <a:pt x="17478" y="4122"/>
                </a:lnTo>
                <a:close/>
              </a:path>
              <a:path fill="darkenLess" w="21600" h="21787">
                <a:moveTo>
                  <a:pt x="21600" y="21787"/>
                </a:moveTo>
                <a:lnTo>
                  <a:pt x="0" y="21787"/>
                </a:lnTo>
                <a:lnTo>
                  <a:pt x="4122" y="17665"/>
                </a:lnTo>
                <a:lnTo>
                  <a:pt x="17478" y="17665"/>
                </a:lnTo>
                <a:close/>
              </a:path>
              <a:path fill="lighten" w="21600" h="21787">
                <a:moveTo>
                  <a:pt x="0" y="21787"/>
                </a:moveTo>
                <a:lnTo>
                  <a:pt x="0" y="0"/>
                </a:lnTo>
                <a:lnTo>
                  <a:pt x="4122" y="4122"/>
                </a:lnTo>
                <a:lnTo>
                  <a:pt x="4122" y="17665"/>
                </a:lnTo>
                <a:close/>
              </a:path>
              <a:path fill="darken" w="21600" h="21787">
                <a:moveTo>
                  <a:pt x="10800" y="5947"/>
                </a:moveTo>
                <a:lnTo>
                  <a:pt x="12630" y="7802"/>
                </a:lnTo>
                <a:lnTo>
                  <a:pt x="12630" y="6565"/>
                </a:lnTo>
                <a:lnTo>
                  <a:pt x="13892" y="6565"/>
                </a:lnTo>
                <a:lnTo>
                  <a:pt x="13892" y="9063"/>
                </a:lnTo>
                <a:lnTo>
                  <a:pt x="15747" y="10893"/>
                </a:lnTo>
                <a:lnTo>
                  <a:pt x="14572" y="10893"/>
                </a:lnTo>
                <a:lnTo>
                  <a:pt x="14572" y="16001"/>
                </a:lnTo>
                <a:lnTo>
                  <a:pt x="7028" y="16001"/>
                </a:lnTo>
                <a:lnTo>
                  <a:pt x="7028" y="10893"/>
                </a:lnTo>
                <a:lnTo>
                  <a:pt x="5853" y="10893"/>
                </a:lnTo>
                <a:close/>
              </a:path>
              <a:path fill="darkenLess" w="21600" h="21787">
                <a:moveTo>
                  <a:pt x="12630" y="7802"/>
                </a:moveTo>
                <a:lnTo>
                  <a:pt x="12630" y="6565"/>
                </a:lnTo>
                <a:lnTo>
                  <a:pt x="13892" y="6565"/>
                </a:lnTo>
                <a:lnTo>
                  <a:pt x="13892" y="9063"/>
                </a:lnTo>
                <a:close/>
              </a:path>
              <a:path fill="darkenLess" w="21600" h="21787">
                <a:moveTo>
                  <a:pt x="10145" y="13379"/>
                </a:moveTo>
                <a:lnTo>
                  <a:pt x="11455" y="13379"/>
                </a:lnTo>
                <a:lnTo>
                  <a:pt x="11455" y="16001"/>
                </a:lnTo>
                <a:lnTo>
                  <a:pt x="14572" y="16001"/>
                </a:lnTo>
                <a:lnTo>
                  <a:pt x="14572" y="10893"/>
                </a:lnTo>
                <a:lnTo>
                  <a:pt x="7028" y="10893"/>
                </a:lnTo>
                <a:lnTo>
                  <a:pt x="7028" y="16001"/>
                </a:lnTo>
                <a:lnTo>
                  <a:pt x="10145" y="160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-64800" y="777960"/>
            <a:ext cx="92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1. A két ország informatikai tanterveinek összehason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7612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0" y="1862280"/>
            <a:ext cx="4547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z informatika, mint művelődési terü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z általános műveltség ré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zámítástech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önyvtárhaszná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7720" y="1862280"/>
            <a:ext cx="46782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Az informatika, mint művelődési terü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az általános műveltség rés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„</a:t>
            </a: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kulcskészség” -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Information and Communica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60" y="1866960"/>
            <a:ext cx="4506840" cy="163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45000" y="1866960"/>
            <a:ext cx="4560840" cy="163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60" y="3498840"/>
            <a:ext cx="4508640" cy="87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Tantervi követelmények a 6-10. évfolyam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6-8. évf. - egység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9-10. évf. iskolatípustól függő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5000" y="3498840"/>
            <a:ext cx="4560840" cy="87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Tantervi követelmények az 1-11. évfolyam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1-11. évf. - non-core curricul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2000. év végéig csak a 9. évf.-ig van kidolgozv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45000" y="4395960"/>
            <a:ext cx="4557600" cy="1923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„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ulcskészség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valifikációszintek alapján megad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smeret- és tevékenységrends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antár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ulcsszakaszonként megad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smeret- és tevékenységrends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60" y="4395960"/>
            <a:ext cx="450684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velési-oktatási szakaszok alapján megadott cél- és követelményrends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Évfolyamonként megad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evékenységrendsz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émakörök és tartalm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2200" y="2138400"/>
            <a:ext cx="723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1. A magyar és a brit közoktatási rendszer összehasonl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720" y="3576600"/>
            <a:ext cx="703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2. A két ország tantervi szabályozásának összehasonl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960" y="5253120"/>
            <a:ext cx="57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3. A két ország vizsgarendszerének bemut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0160" y="118116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z előadás tematiká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810560" y="2114640"/>
            <a:ext cx="704880" cy="533160"/>
          </a:xfrm>
          <a:custGeom>
            <a:avLst/>
            <a:gdLst>
              <a:gd name="textAreaLeft" fmla="*/ 109440 w 704880"/>
              <a:gd name="textAreaRight" fmla="*/ 595440 w 704880"/>
              <a:gd name="textAreaTop" fmla="*/ 109440 h 533160"/>
              <a:gd name="textAreaBottom" fmla="*/ 423720 h 533160"/>
            </a:gdLst>
            <a:ahLst/>
            <a:rect l="textAreaLeft" t="textAreaTop" r="textAreaRight" b="textAreaBottom"/>
            <a:pathLst>
              <a:path w="28552" h="21600">
                <a:moveTo>
                  <a:pt x="0" y="0"/>
                </a:moveTo>
                <a:lnTo>
                  <a:pt x="28552" y="0"/>
                </a:lnTo>
                <a:lnTo>
                  <a:pt x="28552" y="21600"/>
                </a:lnTo>
                <a:lnTo>
                  <a:pt x="0" y="21600"/>
                </a:lnTo>
                <a:close/>
              </a:path>
              <a:path fill="lightenLess" w="28552" h="21600">
                <a:moveTo>
                  <a:pt x="0" y="0"/>
                </a:moveTo>
                <a:lnTo>
                  <a:pt x="28552" y="0"/>
                </a:lnTo>
                <a:lnTo>
                  <a:pt x="24116" y="4436"/>
                </a:lnTo>
                <a:lnTo>
                  <a:pt x="4436" y="4436"/>
                </a:lnTo>
                <a:close/>
              </a:path>
              <a:path fill="darken" w="28552" h="21600">
                <a:moveTo>
                  <a:pt x="28552" y="0"/>
                </a:moveTo>
                <a:lnTo>
                  <a:pt x="28552" y="21600"/>
                </a:lnTo>
                <a:lnTo>
                  <a:pt x="24116" y="17164"/>
                </a:lnTo>
                <a:lnTo>
                  <a:pt x="24116" y="4436"/>
                </a:lnTo>
                <a:close/>
              </a:path>
              <a:path fill="darkenLess" w="28552" h="21600">
                <a:moveTo>
                  <a:pt x="28552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24116" y="17164"/>
                </a:lnTo>
                <a:close/>
              </a:path>
              <a:path fill="lighten" w="28552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  <a:path fill="darken" w="28552" h="21600">
                <a:moveTo>
                  <a:pt x="9533" y="6056"/>
                </a:moveTo>
                <a:lnTo>
                  <a:pt x="19020" y="10800"/>
                </a:lnTo>
                <a:lnTo>
                  <a:pt x="9533" y="155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821720" y="3543480"/>
            <a:ext cx="704880" cy="533160"/>
          </a:xfrm>
          <a:custGeom>
            <a:avLst/>
            <a:gdLst>
              <a:gd name="textAreaLeft" fmla="*/ 109440 w 704880"/>
              <a:gd name="textAreaRight" fmla="*/ 595440 w 704880"/>
              <a:gd name="textAreaTop" fmla="*/ 109440 h 533160"/>
              <a:gd name="textAreaBottom" fmla="*/ 423720 h 533160"/>
            </a:gdLst>
            <a:ahLst/>
            <a:rect l="textAreaLeft" t="textAreaTop" r="textAreaRight" b="textAreaBottom"/>
            <a:pathLst>
              <a:path w="28552" h="21600">
                <a:moveTo>
                  <a:pt x="0" y="0"/>
                </a:moveTo>
                <a:lnTo>
                  <a:pt x="28552" y="0"/>
                </a:lnTo>
                <a:lnTo>
                  <a:pt x="28552" y="21600"/>
                </a:lnTo>
                <a:lnTo>
                  <a:pt x="0" y="21600"/>
                </a:lnTo>
                <a:close/>
              </a:path>
              <a:path fill="lightenLess" w="28552" h="21600">
                <a:moveTo>
                  <a:pt x="0" y="0"/>
                </a:moveTo>
                <a:lnTo>
                  <a:pt x="28552" y="0"/>
                </a:lnTo>
                <a:lnTo>
                  <a:pt x="24116" y="4436"/>
                </a:lnTo>
                <a:lnTo>
                  <a:pt x="4436" y="4436"/>
                </a:lnTo>
                <a:close/>
              </a:path>
              <a:path fill="darken" w="28552" h="21600">
                <a:moveTo>
                  <a:pt x="28552" y="0"/>
                </a:moveTo>
                <a:lnTo>
                  <a:pt x="28552" y="21600"/>
                </a:lnTo>
                <a:lnTo>
                  <a:pt x="24116" y="17164"/>
                </a:lnTo>
                <a:lnTo>
                  <a:pt x="24116" y="4436"/>
                </a:lnTo>
                <a:close/>
              </a:path>
              <a:path fill="darkenLess" w="28552" h="21600">
                <a:moveTo>
                  <a:pt x="28552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24116" y="17164"/>
                </a:lnTo>
                <a:close/>
              </a:path>
              <a:path fill="lighten" w="28552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  <a:path fill="darken" w="28552" h="21600">
                <a:moveTo>
                  <a:pt x="9533" y="6056"/>
                </a:moveTo>
                <a:lnTo>
                  <a:pt x="19020" y="10800"/>
                </a:lnTo>
                <a:lnTo>
                  <a:pt x="9533" y="155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7829640" y="5219640"/>
            <a:ext cx="704880" cy="533520"/>
          </a:xfrm>
          <a:custGeom>
            <a:avLst/>
            <a:gdLst>
              <a:gd name="textAreaLeft" fmla="*/ 109440 w 704880"/>
              <a:gd name="textAreaRight" fmla="*/ 595440 w 704880"/>
              <a:gd name="textAreaTop" fmla="*/ 109440 h 533520"/>
              <a:gd name="textAreaBottom" fmla="*/ 424080 h 533520"/>
            </a:gdLst>
            <a:ahLst/>
            <a:rect l="textAreaLeft" t="textAreaTop" r="textAreaRight" b="textAreaBottom"/>
            <a:pathLst>
              <a:path w="28533" h="21600">
                <a:moveTo>
                  <a:pt x="0" y="0"/>
                </a:moveTo>
                <a:lnTo>
                  <a:pt x="28533" y="0"/>
                </a:lnTo>
                <a:lnTo>
                  <a:pt x="28533" y="21600"/>
                </a:lnTo>
                <a:lnTo>
                  <a:pt x="0" y="21600"/>
                </a:lnTo>
                <a:close/>
              </a:path>
              <a:path fill="lightenLess" w="28533" h="21600">
                <a:moveTo>
                  <a:pt x="0" y="0"/>
                </a:moveTo>
                <a:lnTo>
                  <a:pt x="28533" y="0"/>
                </a:lnTo>
                <a:lnTo>
                  <a:pt x="24097" y="4436"/>
                </a:lnTo>
                <a:lnTo>
                  <a:pt x="4436" y="4436"/>
                </a:lnTo>
                <a:close/>
              </a:path>
              <a:path fill="darken" w="28533" h="21600">
                <a:moveTo>
                  <a:pt x="28533" y="0"/>
                </a:moveTo>
                <a:lnTo>
                  <a:pt x="28533" y="21600"/>
                </a:lnTo>
                <a:lnTo>
                  <a:pt x="24097" y="17164"/>
                </a:lnTo>
                <a:lnTo>
                  <a:pt x="24097" y="4436"/>
                </a:lnTo>
                <a:close/>
              </a:path>
              <a:path fill="darkenLess" w="28533" h="21600">
                <a:moveTo>
                  <a:pt x="28533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24097" y="17164"/>
                </a:lnTo>
                <a:close/>
              </a:path>
              <a:path fill="lighten" w="28533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  <a:path fill="darken" w="28533" h="21600">
                <a:moveTo>
                  <a:pt x="9523" y="6056"/>
                </a:moveTo>
                <a:lnTo>
                  <a:pt x="19010" y="10800"/>
                </a:lnTo>
                <a:lnTo>
                  <a:pt x="9523" y="155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0320" y="777960"/>
            <a:ext cx="85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1.HU. A magyar informatikai kerettanterv szerkez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520" y="1314360"/>
            <a:ext cx="87242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Nevelési-oktatási szakaszonként megfogalmazott általános cél- és követelményrendsz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1. nevelési feladat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esztétikai készség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az informatika etikai és jogi szabályainak elsaját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együttműködésre, csoportmunkára ne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az önálló, alkotó munkára ne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2. oktatási feladat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- az alapvető informatikai ismeretek elsaját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- az informatikai eszközök (szoftverek, hardverek) használatán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jártasság és készség szintű elsaját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- képességfejlesztés (vizuális figyelem, vizuális hosszútávú emlékeze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algoritmizált gondolkodás, problémamegoldó gondolkodás,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Ciklikusan felépülő tevékenységrendsz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Informatikai alapismeretek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Az operációs rendszer haszná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Algoritmusok és adatok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Hálózati kommunik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Szöveges dokumentumkészítés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Táblázat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Adatbázis-készítés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Könyvtárhaszná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0560" y="1714680"/>
            <a:ext cx="285840" cy="3257280"/>
          </a:xfrm>
          <a:custGeom>
            <a:avLst/>
            <a:gdLst>
              <a:gd name="textAreaLeft" fmla="*/ 0 w 285840"/>
              <a:gd name="textAreaRight" fmla="*/ 103320 w 285840"/>
              <a:gd name="textAreaTop" fmla="*/ 84600 h 3257280"/>
              <a:gd name="textAreaBottom" fmla="*/ 3172680 h 32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22800">
            <a:off x="6943320" y="2772360"/>
            <a:ext cx="32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formatikai művel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Informatikai társadal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00960" y="3067200"/>
            <a:ext cx="381240" cy="495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364600" y="6058080"/>
          <a:ext cx="6840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4600" y="6058080"/>
                    <a:ext cx="6840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960" y="777960"/>
            <a:ext cx="70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1.GB. A brit informatika tanterv szerkez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200" y="1481040"/>
            <a:ext cx="82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857160"/>
                <a:tab algn="ctr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alifikációs sz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ajátított ismeret és tevékenység ren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57160"/>
                <a:tab algn="ctr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1600" y="1409760"/>
            <a:ext cx="82375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1600" y="1943280"/>
            <a:ext cx="824544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ormációk keresése, kiválasz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-4. szin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z információ tárolása, előhív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ormáció-előállítási módok elsajátí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z információ többféle megjelení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1432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86160" y="3238560"/>
            <a:ext cx="4000680" cy="3238560"/>
          </a:xfrm>
          <a:prstGeom prst="line">
            <a:avLst/>
          </a:prstGeom>
          <a:ln w="381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57200" y="3276720"/>
            <a:ext cx="3828960" cy="3219480"/>
          </a:xfrm>
          <a:prstGeom prst="line">
            <a:avLst/>
          </a:prstGeom>
          <a:ln w="381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6496200"/>
            <a:ext cx="7848720" cy="0"/>
          </a:xfrm>
          <a:prstGeom prst="line">
            <a:avLst/>
          </a:prstGeom>
          <a:ln w="7632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33560" y="6033960"/>
            <a:ext cx="668160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z ismeretek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5800" y="5538960"/>
            <a:ext cx="5538960" cy="4597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 megértés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6560" y="5062680"/>
            <a:ext cx="4367160" cy="45972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Az alkalmazás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66960" y="4567320"/>
            <a:ext cx="3157560" cy="459720"/>
          </a:xfrm>
          <a:prstGeom prst="rect">
            <a:avLst/>
          </a:prstGeom>
          <a:noFill/>
          <a:ln w="28440">
            <a:solidFill>
              <a:srgbClr val="341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1fcf"/>
                </a:solidFill>
                <a:latin typeface="Times New Roman"/>
              </a:rPr>
              <a:t>Az analízis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2320" y="4148280"/>
            <a:ext cx="21477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zintézis szin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400560" y="3282840"/>
            <a:ext cx="1828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4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Arial Black"/>
              </a:rPr>
              <a:t>Az önellenőrzés szintje</a:t>
            </a:r>
            <a:endParaRPr b="0" lang="en-US" sz="16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8344080" y="6039000"/>
          <a:ext cx="72216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44080" y="6039000"/>
                    <a:ext cx="722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9880" y="803160"/>
            <a:ext cx="86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3.2. A két ország informatikai tanterveinek összehasonlítá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680" y="1736640"/>
            <a:ext cx="8648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ardver- és szoftverfügge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7612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5360" y="2205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önálló tantá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gazi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49680" y="2205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efiniált tantárgyi kapcso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gazi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5360" y="2928960"/>
            <a:ext cx="43196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az IT, mint esz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49680" y="2928960"/>
            <a:ext cx="43196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z ICT, mint mó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49680" y="3348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eghatározza az adott tantárgy hatékony tanulásának feltétele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360" y="3348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m foglalkozik az adott tantárgy tanulási sajátosságai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49680" y="407196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Fogyatékos tanulók ismeretelsajátítási stratégi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5360" y="407196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A tanterv nem tartalm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ilyen utalások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49680" y="479592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yelvi alapkész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írás, olvasás, szóbeli kifejez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ejlesztése az adott tantárgyon belü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5360" y="479592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yelvi alapkész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írás, olvasás, szóbeli kifejez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ejlesztése az adott tantárgyon belü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49680" y="582444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7+1 szintű képességfejlesztési célrendszer, az adott kulcsszakaszok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5360" y="583236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Minimális követelményrendsz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továbbhaladási feltételekke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szintek nélkü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gyar3" descr=""/>
          <p:cNvPicPr/>
          <p:nvPr/>
        </p:nvPicPr>
        <p:blipFill>
          <a:blip r:embed="rId2"/>
          <a:stretch/>
        </p:blipFill>
        <p:spPr>
          <a:xfrm>
            <a:off x="173160" y="1200240"/>
            <a:ext cx="4186080" cy="5475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0" y="83196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A magyar közoktatási és szakképzési rends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3920" y="839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A brit közoktatási és szakképzési rends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RIT4" descr=""/>
          <p:cNvPicPr/>
          <p:nvPr/>
        </p:nvPicPr>
        <p:blipFill>
          <a:blip r:embed="rId3"/>
          <a:stretch/>
        </p:blipFill>
        <p:spPr>
          <a:xfrm>
            <a:off x="4545000" y="1184400"/>
            <a:ext cx="4419720" cy="5486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520" y="7272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800" y="37116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50800" y="990720"/>
          <a:ext cx="6114960" cy="28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00" y="990720"/>
                    <a:ext cx="611496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50800" y="4022640"/>
          <a:ext cx="6114960" cy="285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00" y="4022640"/>
                    <a:ext cx="611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232160" y="3029040"/>
            <a:ext cx="4438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ublic school -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lőkelő, zártkörű, gyak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entlakásos középiskola (alapítvány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állami támogatás nélkül; közel 2.300 iskol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885840" y="2590560"/>
            <a:ext cx="343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752640" y="4648320"/>
            <a:ext cx="476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25760" y="4838760"/>
            <a:ext cx="3445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iskolák 20%-a katolik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(voluntary sch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(anglikán és római kat.), az ál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s az önkormányzat támogat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7800" y="8539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c5d2e"/>
                </a:solidFill>
                <a:latin typeface="Times New Roman"/>
              </a:rPr>
              <a:t>Second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0040" y="1450800"/>
            <a:ext cx="65224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85840">
              <a:spcAft>
                <a:spcPts val="2999"/>
              </a:spcAft>
              <a:buClr>
                <a:srgbClr val="8c5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c5d2e"/>
                </a:solidFill>
                <a:latin typeface="Times New Roman"/>
              </a:rPr>
              <a:t>Comprehensive school - általános középis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spcAft>
                <a:spcPts val="2999"/>
              </a:spcAft>
              <a:buClr>
                <a:srgbClr val="8c5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c5d2e"/>
                </a:solidFill>
                <a:latin typeface="Times New Roman"/>
              </a:rPr>
              <a:t>Grammar school - gimná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spcAft>
                <a:spcPts val="2999"/>
              </a:spcAft>
              <a:buClr>
                <a:srgbClr val="8c5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c5d2e"/>
                </a:solidFill>
                <a:latin typeface="Times New Roman"/>
              </a:rPr>
              <a:t>Secondary technical school - szakközépis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520" y="3483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zakkép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4003560"/>
            <a:ext cx="683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spcAft>
                <a:spcPts val="29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4 - 18 éves kor között -”Compacts” project az (magas színvonalú szakképzés) 1980-as évektő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Aft>
                <a:spcPts val="29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6 - 18 éves kor között - furt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344080" y="6118200"/>
            <a:ext cx="704520" cy="644400"/>
          </a:xfrm>
          <a:custGeom>
            <a:avLst/>
            <a:gdLst>
              <a:gd name="textAreaLeft" fmla="*/ 153720 w 704520"/>
              <a:gd name="textAreaRight" fmla="*/ 550800 w 704520"/>
              <a:gd name="textAreaTop" fmla="*/ 153720 h 644400"/>
              <a:gd name="textAreaBottom" fmla="*/ 490680 h 644400"/>
            </a:gdLst>
            <a:ahLst/>
            <a:rect l="textAreaLeft" t="textAreaTop" r="textAreaRight" b="textAreaBottom"/>
            <a:pathLst>
              <a:path w="23614" h="21600">
                <a:moveTo>
                  <a:pt x="0" y="0"/>
                </a:moveTo>
                <a:lnTo>
                  <a:pt x="23614" y="0"/>
                </a:lnTo>
                <a:lnTo>
                  <a:pt x="23614" y="21600"/>
                </a:lnTo>
                <a:lnTo>
                  <a:pt x="0" y="21600"/>
                </a:lnTo>
                <a:close/>
              </a:path>
              <a:path fill="lightenLess" w="23614" h="21600">
                <a:moveTo>
                  <a:pt x="0" y="0"/>
                </a:moveTo>
                <a:lnTo>
                  <a:pt x="23614" y="0"/>
                </a:lnTo>
                <a:lnTo>
                  <a:pt x="18453" y="5161"/>
                </a:lnTo>
                <a:lnTo>
                  <a:pt x="5161" y="5161"/>
                </a:lnTo>
                <a:close/>
              </a:path>
              <a:path fill="darken" w="23614" h="21600">
                <a:moveTo>
                  <a:pt x="23614" y="0"/>
                </a:moveTo>
                <a:lnTo>
                  <a:pt x="23614" y="21600"/>
                </a:lnTo>
                <a:lnTo>
                  <a:pt x="18453" y="16439"/>
                </a:lnTo>
                <a:lnTo>
                  <a:pt x="18453" y="5161"/>
                </a:lnTo>
                <a:close/>
              </a:path>
              <a:path fill="darkenLess" w="23614" h="21600">
                <a:moveTo>
                  <a:pt x="23614" y="21600"/>
                </a:moveTo>
                <a:lnTo>
                  <a:pt x="0" y="21600"/>
                </a:lnTo>
                <a:lnTo>
                  <a:pt x="5161" y="16439"/>
                </a:lnTo>
                <a:lnTo>
                  <a:pt x="18453" y="16439"/>
                </a:lnTo>
                <a:close/>
              </a:path>
              <a:path fill="lighten" w="23614" h="21600">
                <a:moveTo>
                  <a:pt x="0" y="21600"/>
                </a:moveTo>
                <a:lnTo>
                  <a:pt x="0" y="0"/>
                </a:lnTo>
                <a:lnTo>
                  <a:pt x="5161" y="5161"/>
                </a:lnTo>
                <a:lnTo>
                  <a:pt x="5161" y="16439"/>
                </a:lnTo>
                <a:close/>
              </a:path>
              <a:path fill="darken" w="23614" h="21600">
                <a:moveTo>
                  <a:pt x="11807" y="6623"/>
                </a:moveTo>
                <a:lnTo>
                  <a:pt x="13353" y="8189"/>
                </a:lnTo>
                <a:lnTo>
                  <a:pt x="13353" y="7145"/>
                </a:lnTo>
                <a:lnTo>
                  <a:pt x="14418" y="7145"/>
                </a:lnTo>
                <a:lnTo>
                  <a:pt x="14418" y="9254"/>
                </a:lnTo>
                <a:lnTo>
                  <a:pt x="15984" y="10800"/>
                </a:lnTo>
                <a:lnTo>
                  <a:pt x="14992" y="10800"/>
                </a:lnTo>
                <a:lnTo>
                  <a:pt x="14992" y="15113"/>
                </a:lnTo>
                <a:lnTo>
                  <a:pt x="8622" y="15113"/>
                </a:lnTo>
                <a:lnTo>
                  <a:pt x="8622" y="10800"/>
                </a:lnTo>
                <a:lnTo>
                  <a:pt x="7630" y="10800"/>
                </a:lnTo>
                <a:close/>
              </a:path>
              <a:path fill="darkenLess" w="23614" h="21600">
                <a:moveTo>
                  <a:pt x="13353" y="8189"/>
                </a:moveTo>
                <a:lnTo>
                  <a:pt x="13353" y="7145"/>
                </a:lnTo>
                <a:lnTo>
                  <a:pt x="14418" y="7145"/>
                </a:lnTo>
                <a:lnTo>
                  <a:pt x="14418" y="9254"/>
                </a:lnTo>
                <a:close/>
              </a:path>
              <a:path fill="darkenLess" w="23614" h="21600">
                <a:moveTo>
                  <a:pt x="11254" y="12899"/>
                </a:moveTo>
                <a:lnTo>
                  <a:pt x="12360" y="12899"/>
                </a:lnTo>
                <a:lnTo>
                  <a:pt x="12360" y="15113"/>
                </a:lnTo>
                <a:lnTo>
                  <a:pt x="14992" y="15113"/>
                </a:lnTo>
                <a:lnTo>
                  <a:pt x="14992" y="10800"/>
                </a:lnTo>
                <a:lnTo>
                  <a:pt x="8622" y="10800"/>
                </a:lnTo>
                <a:lnTo>
                  <a:pt x="8622" y="15113"/>
                </a:lnTo>
                <a:lnTo>
                  <a:pt x="11254" y="151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c5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80600" y="887400"/>
            <a:ext cx="6703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3333cc"/>
                </a:solidFill>
                <a:latin typeface="Times New Roman"/>
              </a:rPr>
              <a:t>A National Curriculum alapvető célkitűzése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(2000-2002 között folyamatosan bevezet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320" y="1700280"/>
            <a:ext cx="82609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tjárható iskolarendszer biztosítása </a:t>
            </a:r>
            <a:r>
              <a:rPr b="1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érvényes minden iskolatípus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gységes követelményrendszer megfogalma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tanulók tudásának, képességeinek, személyiségének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követelmények széleskörűvé té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5080" y="3889440"/>
            <a:ext cx="21650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nmegvaló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6600">
            <a:off x="4465800" y="30600"/>
            <a:ext cx="438480" cy="7059600"/>
          </a:xfrm>
          <a:custGeom>
            <a:avLst/>
            <a:gdLst>
              <a:gd name="textAreaLeft" fmla="*/ 0 w 438480"/>
              <a:gd name="textAreaRight" fmla="*/ 158400 w 438480"/>
              <a:gd name="textAreaTop" fmla="*/ 183960 h 7059600"/>
              <a:gd name="textAreaBottom" fmla="*/ 6875640 h 705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1640" y="5070600"/>
            <a:ext cx="5255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anulás fontosságának hangsúly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5985000"/>
            <a:ext cx="4725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élethosszig tartó tanulás szere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7000" y="4876920"/>
            <a:ext cx="0" cy="135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7000" y="622944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7000" y="5315040"/>
            <a:ext cx="49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26080" y="1424160"/>
            <a:ext cx="0" cy="5319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000" y="88740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34760" y="1298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23800" y="1298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080" y="175572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A tantervi szabályozás rendsz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760" y="3114720"/>
            <a:ext cx="3269880" cy="520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mzeti alaptant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65760" y="2593800"/>
            <a:ext cx="21816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rettanter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6600" y="2171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yi tanterv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86280" y="2604960"/>
            <a:ext cx="4200480" cy="102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emzeti alaptanter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 típus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m mag típus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8080" y="3260880"/>
            <a:ext cx="421776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72160" y="3279600"/>
            <a:ext cx="0" cy="3780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4200" y="213984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yi tanterv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8944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A tantervi szabályozás szakasz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90920"/>
            <a:ext cx="8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7560" y="367992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183200">
            <a:off x="3771360" y="293040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özponti tanterv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432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4320" y="22478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324320" y="363852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440" y="5889600"/>
            <a:ext cx="43815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1-8. évf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Egységes kerettanter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440" y="5089680"/>
            <a:ext cx="4381560" cy="7340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333399"/>
                </a:solidFill>
                <a:latin typeface="Times New Roman"/>
              </a:rPr>
              <a:t>9-10. évf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Iskolatípustól függő kerettanterv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gimn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zakközépisk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zaki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3440" y="4648320"/>
            <a:ext cx="4381560" cy="368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11-12. évf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0000"/>
                </a:solidFill>
                <a:latin typeface="Times New Roman"/>
              </a:rPr>
              <a:t>Iskolatípustól függő tanter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0640" y="4210200"/>
            <a:ext cx="3524400" cy="368280"/>
          </a:xfrm>
          <a:prstGeom prst="rect">
            <a:avLst/>
          </a:prstGeom>
          <a:noFill/>
          <a:ln w="3816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13- évf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0000"/>
                </a:solidFill>
                <a:latin typeface="Times New Roman"/>
              </a:rPr>
              <a:t>OKJ-re épülő tanterve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44960" y="5353200"/>
            <a:ext cx="39513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1-11. évf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Egysé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Nemzeti alaptant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44960" y="4233960"/>
            <a:ext cx="3924360" cy="1068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hu-HU" sz="1600" spc="-1" strike="noStrike">
                <a:solidFill>
                  <a:srgbClr val="333399"/>
                </a:solidFill>
                <a:latin typeface="Times New Roman"/>
              </a:rPr>
              <a:t>12-13. évf.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Kvalifikáció függő tanter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szakisk.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szakmai előisk.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emeltszintű is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NVQ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GNVQ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G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600" y="3714840"/>
            <a:ext cx="35812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2600" y="2133720"/>
            <a:ext cx="0" cy="158112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2133720"/>
            <a:ext cx="354312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133720"/>
            <a:ext cx="0" cy="158112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11760" y="3714840"/>
            <a:ext cx="433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38760" y="2114280"/>
            <a:ext cx="0" cy="160020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38760" y="2095560"/>
            <a:ext cx="4305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0" y="2076480"/>
            <a:ext cx="0" cy="161928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flipV="1">
            <a:off x="4602240" y="1564920"/>
            <a:ext cx="0" cy="5446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6120" y="81108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6196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17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A tantervi típ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480" y="2109960"/>
            <a:ext cx="544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ff"/>
                </a:solidFill>
                <a:latin typeface="Times New Roman"/>
              </a:rPr>
              <a:t>nyitott curriculu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ff"/>
                </a:solidFill>
                <a:latin typeface="Times New Roman"/>
              </a:rPr>
              <a:t>core ill. non-core curriculum és local 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02240" y="2841120"/>
            <a:ext cx="0" cy="5446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640" y="289872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A tanterv érvényességi kö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240" y="3348000"/>
            <a:ext cx="9091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ff"/>
                </a:solidFill>
                <a:latin typeface="Times New Roman"/>
              </a:rPr>
              <a:t>Minden iskolatípusra, beleértve az egyházi, az alapítványi és a magán iskolákat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1-8. évf. egységes tantervi köv. minden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Bizonyos tantárgyak vonatkozásá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iskolatípusra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(anyanyelv, matematika, term. tu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9-10. évf. iskolatípus függő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1-11. évf. egység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a többi tantárgy vonatkozásá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non-core 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02240" y="3905280"/>
            <a:ext cx="0" cy="27050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80" y="51847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A tananyag elrendezé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720" y="5234040"/>
            <a:ext cx="419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Műveltségi területek alapján - 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antárgyi felépítés - 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iklikus felé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8720" y="5519880"/>
            <a:ext cx="41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Tantárgyi felépítés-kulcsszakasz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Ciklikus felé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27480" y="81108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196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3600" y="171756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A tanterv tartalmi és követelmény szerkez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54520" y="1393920"/>
            <a:ext cx="0" cy="544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4520" y="2362320"/>
            <a:ext cx="0" cy="42670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440" y="52228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A követelmények jelle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000" y="201456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Szakaszos felé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840" y="2433600"/>
            <a:ext cx="1201680" cy="10087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Alapfok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00"/>
                </a:solidFill>
                <a:latin typeface="Times New Roman"/>
              </a:rPr>
              <a:t>nev.-o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szaka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4760" y="2433600"/>
            <a:ext cx="1370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Középfok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Times New Roman"/>
              </a:rPr>
              <a:t>nev.-o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szaka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0360" y="2444760"/>
            <a:ext cx="1425960" cy="1008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Szakkép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szaka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85000" y="2462040"/>
            <a:ext cx="333000" cy="5806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2200" y="2462040"/>
            <a:ext cx="333000" cy="580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37520" y="2462040"/>
            <a:ext cx="33300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400" y="2462040"/>
            <a:ext cx="333000" cy="58068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5320" y="3176640"/>
            <a:ext cx="183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ulcsszakas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lt.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alapműv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91040" y="2381400"/>
            <a:ext cx="1886040" cy="16761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6960" y="351936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általános művel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1360" y="2362320"/>
            <a:ext cx="2819520" cy="1695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03360" y="2381400"/>
            <a:ext cx="178560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A továbbtanu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megalapozá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szakas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53400" y="3371760"/>
            <a:ext cx="19620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Szakképzés szakas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13000" y="4191120"/>
            <a:ext cx="41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követelmények a kulcsszakaszok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GSCE a 4. kulcsszakasz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GCE a továbbtanulás megal. sz.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szakmai  vizs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00" y="4191120"/>
            <a:ext cx="44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alapműveltségi vizsga a középfok közep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érettségi vizsga a középfok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szakmai vizs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1480" y="5581800"/>
            <a:ext cx="402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ismeretcentrikusság - 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készség- és képességcentrikusság -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személyiségfejlesz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8640" y="5562720"/>
            <a:ext cx="37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elérési célok ---- elsajátítási szint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tanuláscentriku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készségcentriku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6153120"/>
            <a:ext cx="2324160" cy="3808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53360" y="6515280"/>
            <a:ext cx="876240" cy="1872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19:50:03Z</dcterms:created>
  <dc:creator>Tóth Péter</dc:creator>
  <dc:description/>
  <dc:language>en-US</dc:language>
  <cp:lastModifiedBy>tptt</cp:lastModifiedBy>
  <cp:lastPrinted>2000-05-25T05:13:52Z</cp:lastPrinted>
  <dcterms:modified xsi:type="dcterms:W3CDTF">2003-05-19T20:41:44Z</dcterms:modified>
  <cp:revision>53</cp:revision>
  <dc:subject/>
  <dc:title>Az informatikaoktatás tantervi szabályozásának európai vetületei Magyarország, Nagy-Britannia</dc:title>
</cp:coreProperties>
</file>